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48320" y="706320"/>
            <a:ext cx="41940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3/31/09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200400" y="1918800"/>
            <a:ext cx="564984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1" marL="144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22716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3" marL="68580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4" marL="1028880" indent="-228600">
              <a:spcBef>
                <a:spcPts val="1500"/>
              </a:spcBef>
              <a:spcAft>
                <a:spcPts val="300"/>
              </a:spcAft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5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lvl="6" marL="1028880" indent="-2286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98960" y="645840"/>
            <a:ext cx="5649840" cy="21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75c4"/>
                </a:solidFill>
                <a:latin typeface="Arial Black"/>
              </a:rPr>
              <a:t>Click to edit the title text format</a:t>
            </a:r>
            <a:endParaRPr b="0" lang="en-US" sz="1400" spc="-1" strike="noStrike">
              <a:solidFill>
                <a:srgbClr val="3a75c4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295200" y="1116000"/>
            <a:ext cx="8558280" cy="0"/>
          </a:xfrm>
          <a:prstGeom prst="line">
            <a:avLst/>
          </a:prstGeom>
          <a:ln w="50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2600" y="6502320"/>
            <a:ext cx="156852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48320" y="706320"/>
            <a:ext cx="4194000" cy="1175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1"/>
          </p:nvPr>
        </p:nvSpPr>
        <p:spPr>
          <a:xfrm>
            <a:off x="4509720" y="77760"/>
            <a:ext cx="432900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EEC338F6-8D5D-49F0-B4A5-B28B7E7FD5D8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EB2131BD-B0C4-4395-95CD-8346C31E1C47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7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lvl="1" marL="341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798480" algn="ctr">
              <a:spcBef>
                <a:spcPts val="326"/>
              </a:spcBef>
              <a:buClr>
                <a:srgbClr val="3a75c4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914400" algn="ctr">
              <a:spcBef>
                <a:spcPts val="326"/>
              </a:spcBef>
              <a:buClr>
                <a:srgbClr val="3a75c4"/>
              </a:buClr>
              <a:buSzPct val="90000"/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1028520" algn="ctr">
              <a:spcBef>
                <a:spcPts val="326"/>
              </a:spcBef>
              <a:buClr>
                <a:srgbClr val="3a75c4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1028520"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1028520"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10080" y="77760"/>
            <a:ext cx="43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BC130CB9-4E38-49CB-AFDB-F6D1B4C35FD7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fld id="{47690115-4A39-47B1-9F4B-55AE3A27123A}" type="datetime10">
              <a:rPr b="0" lang="en-US" sz="600" spc="-1" strike="noStrike">
                <a:solidFill>
                  <a:srgbClr val="000000"/>
                </a:solidFill>
                <a:latin typeface="Arial"/>
              </a:rPr>
              <a:t>15:17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8720" y="115560"/>
            <a:ext cx="1981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560" y="-433440"/>
            <a:ext cx="8399520" cy="276480"/>
          </a:xfrm>
          <a:prstGeom prst="rect">
            <a:avLst/>
          </a:prstGeom>
          <a:solidFill>
            <a:srgbClr val="efd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d5449"/>
                </a:solidFill>
                <a:latin typeface="Arial Narrow"/>
              </a:rPr>
              <a:t>Save with page numbers, remove page numbers and PDF, insert page numbers in PDF file, Times New Roman 8, change top/bottom to 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960" y="519840"/>
            <a:ext cx="2651400" cy="51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mpact"/>
              </a:rPr>
              <a:t>9/30/08 Valu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8960" y="646200"/>
            <a:ext cx="5649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lick to edit Ma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42880" y="3067200"/>
            <a:ext cx="39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Impact"/>
              </a:rPr>
              <a:t>March 31, 2010 Proposed Val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34040" y="19044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DRAFT 3/12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13:30Z</dcterms:created>
  <dc:creator>TBG</dc:creator>
  <dc:description/>
  <dc:language>en-US</dc:language>
  <cp:lastModifiedBy>LEVYD</cp:lastModifiedBy>
  <cp:lastPrinted>2008-04-09T04:03:18Z</cp:lastPrinted>
  <dcterms:modified xsi:type="dcterms:W3CDTF">2010-03-11T20:57:54Z</dcterms:modified>
  <cp:revision>4869</cp:revision>
  <dc:subject/>
  <dc:title>Page Title</dc:title>
</cp:coreProperties>
</file>